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826-B071-49E2-A379-41029D74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B6C-634D-4A85-986D-A1478225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92F-52A3-46FB-A5AB-5ABB87C6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F8D-1E08-4BBC-9492-288979AE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B14-8ECC-4BAB-8841-D807FD5F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796-89E8-4441-80C8-9899A23F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ADC-6945-47AC-A77F-05087CF8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6D2-2D31-455D-BE59-7FB209BC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A52-C8DC-4D33-8640-BAE2D3C8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F90-3F6D-4203-A9D3-95199A2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8CB-77A4-4368-8FC2-CE7B9EEA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798-5CCC-4948-8C7D-89DD06B8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A156-3E3E-4DBD-8820-938961051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ing Decima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close enough is good enoug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752480"/>
            <a:ext cx="61722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asked to round to the nearest tenth…….your answer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stop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t the tenth plac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48769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Round 42.73 to the closest tenth would be 42.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ase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ing a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438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nd 2.197 to the closes hundred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11480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ce there is a “9” in the hundredths place consider the tenth and hundredths together – 19 – do you leave it at 19 or move it to 2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914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4.95 to the closest ten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98108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ce there is a “9” in the tenth spot consider the ones and tenths together…… should you leave it at 49 or move it to 5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87692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95 rounded to the nearest tenth is 5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286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to tenth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505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05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267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029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5029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22096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to hundred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505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.7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3505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.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343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4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267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029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4952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9907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ly has $16 in her poc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05120"/>
            <a:ext cx="7315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buy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hotdogs @ $1.89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milkshakes @ $2.19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Large French fries @ $ $1.79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4100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es she have enough mone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5335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s costs $1.79 per li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05120"/>
            <a:ext cx="70866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’m running on empty and I have a 40 litre tank on my Car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how much will it cost to fill 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have one hour to take a 50 question t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5909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 how much time can you spend on each ques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4197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enough is good enoug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unding 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438280"/>
            <a:ext cx="7925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your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ok right next d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or less, just ign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or more add one mor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ing Whol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8600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 474 to the closest hund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4191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7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1911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your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7242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4952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right next 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53928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or less, just ign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ve or more, add one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144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74 Rounded to the hundreds becomes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048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nd 474 to the closest 10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4267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7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124080" y="47242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4100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st ignore - 4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05120"/>
            <a:ext cx="3733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,2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7,5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3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decima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765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ame rules (and poem) appl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590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4.167 to the closest 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657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16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657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your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504960" y="4191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4648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right next 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4100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56:38Z</dcterms:created>
  <dc:creator>user</dc:creator>
  <dc:description/>
  <dc:language>en-US</dc:language>
  <cp:lastModifiedBy>nbdoe</cp:lastModifiedBy>
  <dcterms:modified xsi:type="dcterms:W3CDTF">2008-09-12T12:47:56Z</dcterms:modified>
  <cp:revision>7</cp:revision>
  <dc:subject/>
  <dc:title>Rounding Decimal Numbers</dc:title>
</cp:coreProperties>
</file>